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040" y="409716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4840" y="18284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40971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74840" y="40971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93520" y="18284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73360" y="18284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040" y="409716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93520" y="409716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73360" y="409716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14040" y="18284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74840" y="182844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144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74840" y="182844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14040" y="40971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040" y="18284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74840" y="18284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74840" y="40971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4840" y="18284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040" y="409716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14040" y="409716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4840" y="18284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40971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74840" y="40971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93520" y="18284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73360" y="18284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14040" y="409716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93520" y="409716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273360" y="409716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74840" y="182844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74840" y="182844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040" y="40971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4840" y="18284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74840" y="40971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4840" y="18284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040" y="409716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8284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343080" indent="-343080"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2" marL="343080" indent="-343080"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3" marL="343080" indent="-343080"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4" marL="343080" indent="-343080"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5" marL="343080" indent="-34308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6" marL="343080" indent="-34308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14040" y="18284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343080" indent="-343080"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2" marL="343080" indent="-343080"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3" marL="343080" indent="-343080"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4" marL="343080" indent="-343080"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5" marL="343080" indent="-34308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6" marL="343080" indent="-34308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8191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Persuasion</a:t>
            </a: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533520" y="3352320"/>
            <a:ext cx="8610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ee It My Way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AutoShape 5">
            <a:hlinkClick r:id="" action="ppaction://hlinkshowjump?jump=endshow"/>
          </p:cNvPr>
          <p:cNvSpPr/>
          <p:nvPr/>
        </p:nvSpPr>
        <p:spPr>
          <a:xfrm>
            <a:off x="838080" y="640080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Faulty Arguments</a:t>
            </a: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7160" indent="-112680"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Name-calling,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also known as an </a:t>
            </a: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ad hominem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attack, occurs when a writer attacks a person who holds an opposing view rather than attacking the view itself.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108" name="Group 7"/>
          <p:cNvGrpSpPr/>
          <p:nvPr/>
        </p:nvGrpSpPr>
        <p:grpSpPr>
          <a:xfrm>
            <a:off x="5181480" y="2817360"/>
            <a:ext cx="3571560" cy="3505320"/>
            <a:chOff x="5181480" y="2817360"/>
            <a:chExt cx="3571560" cy="3505320"/>
          </a:xfrm>
        </p:grpSpPr>
        <p:pic>
          <p:nvPicPr>
            <p:cNvPr id="109" name="Picture 5" descr=""/>
            <p:cNvPicPr/>
            <p:nvPr/>
          </p:nvPicPr>
          <p:blipFill>
            <a:blip r:embed="rId2"/>
            <a:stretch/>
          </p:blipFill>
          <p:spPr>
            <a:xfrm>
              <a:off x="5181480" y="3809880"/>
              <a:ext cx="3429000" cy="242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6"/>
            <p:cNvSpPr/>
            <p:nvPr/>
          </p:nvSpPr>
          <p:spPr>
            <a:xfrm rot="16200000">
              <a:off x="6892560" y="4462200"/>
              <a:ext cx="3505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© 2003 clipart.com</a:t>
              </a:r>
              <a:endParaRPr b="0" lang="en-US" sz="8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111" name="Rectangle 8"/>
          <p:cNvSpPr/>
          <p:nvPr/>
        </p:nvSpPr>
        <p:spPr>
          <a:xfrm>
            <a:off x="914400" y="289548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511200" indent="-112680">
              <a:lnSpc>
                <a:spcPct val="100000"/>
              </a:lnSpc>
              <a:spcAft>
                <a:spcPts val="75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People who think students should remain on campus for lunch are cowards who hate freedom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2" name="AutoShape 9">
            <a:hlinkClick r:id="" action="ppaction://hlinkshowjump?jump=endshow"/>
          </p:cNvPr>
          <p:cNvSpPr/>
          <p:nvPr/>
        </p:nvSpPr>
        <p:spPr>
          <a:xfrm>
            <a:off x="838080" y="640080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Faulty Arguments</a:t>
            </a: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7160" indent="-112680"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ither-or reasoning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occurs when a writer describes a situation as though there were only two choices when in fact there may be several options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914400" y="2895480"/>
            <a:ext cx="79246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511200" indent="-112680">
              <a:lnSpc>
                <a:spcPct val="100000"/>
              </a:lnSpc>
              <a:spcAft>
                <a:spcPts val="75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If you love cats, you obviously hate dogs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227160" indent="-112680">
              <a:lnSpc>
                <a:spcPct val="100000"/>
              </a:lnSpc>
              <a:spcBef>
                <a:spcPts val="1500"/>
              </a:spcBef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False cause and effect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occurs when a writer asserts that because one event follows another, the first event must have caused the second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2" marL="511200" indent="-112680">
              <a:lnSpc>
                <a:spcPct val="100000"/>
              </a:lnSpc>
              <a:spcAft>
                <a:spcPts val="75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Wearing the new uniforms, our track team lost; therefore, we must return to wearing the old uniforms immediately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6" name="AutoShape 6">
            <a:hlinkClick r:id="" action="ppaction://hlinkshowjump?jump=endshow"/>
          </p:cNvPr>
          <p:cNvSpPr/>
          <p:nvPr/>
        </p:nvSpPr>
        <p:spPr>
          <a:xfrm>
            <a:off x="838080" y="640080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What Have You Learned?</a:t>
            </a: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6881760" y="2514600"/>
            <a:ext cx="1219320" cy="3207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881760" y="3546360"/>
            <a:ext cx="1752480" cy="3207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415880" y="4925880"/>
            <a:ext cx="2011680" cy="3207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280656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Which kind of appeal does this statement make?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spcAft>
                <a:spcPts val="825"/>
              </a:spcAft>
              <a:buNone/>
              <a:tabLst>
                <a:tab algn="l" pos="0"/>
                <a:tab algn="l" pos="457200"/>
                <a:tab algn="l" pos="280656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In a democracy, it is every citizen’s duty to vote.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spcAft>
                <a:spcPts val="825"/>
              </a:spcAft>
              <a:buNone/>
              <a:tabLst>
                <a:tab algn="l" pos="0"/>
                <a:tab algn="l" pos="457200"/>
                <a:tab algn="l" pos="280656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a. logical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b. emotional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c. ethical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0"/>
                <a:tab algn="l" pos="457200"/>
                <a:tab algn="l" pos="280656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2.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A sports star who endorses a soft drink is offering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spcAft>
                <a:spcPts val="825"/>
              </a:spcAft>
              <a:buNone/>
              <a:tabLst>
                <a:tab algn="l" pos="0"/>
                <a:tab algn="l" pos="457200"/>
                <a:tab algn="l" pos="280656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a. loaded words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b. bandwagon appeal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c. testimonial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spcBef>
                <a:spcPts val="1375"/>
              </a:spcBef>
              <a:spcAft>
                <a:spcPts val="825"/>
              </a:spcAft>
              <a:buNone/>
              <a:tabLst>
                <a:tab algn="l" pos="0"/>
                <a:tab algn="l" pos="457200"/>
                <a:tab algn="l" pos="280656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3.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Stating that people who disagree with the writer’s opinion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are selfish is an example of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spcAft>
                <a:spcPts val="825"/>
              </a:spcAft>
              <a:buNone/>
              <a:tabLst>
                <a:tab algn="l" pos="0"/>
                <a:tab algn="l" pos="457200"/>
                <a:tab algn="l" pos="280656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a. name-calling 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	</a:t>
            </a:r>
            <a:br>
              <a:rPr sz="2200"/>
            </a:b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b. either-or reasoning  </a:t>
            </a:r>
            <a:br>
              <a:rPr sz="2200"/>
            </a:b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c. false cause and effect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2" name="AutoShape 7">
            <a:hlinkClick r:id="" action="ppaction://hlinkshowjump?jump=endshow"/>
          </p:cNvPr>
          <p:cNvSpPr/>
          <p:nvPr/>
        </p:nvSpPr>
        <p:spPr>
          <a:xfrm>
            <a:off x="838080" y="640080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609480" y="2819520"/>
            <a:ext cx="8534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The End</a:t>
            </a:r>
            <a:endParaRPr b="0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4" name="AutoShape 3">
            <a:hlinkClick r:id="" action="ppaction://hlinkshowjump?jump=endshow"/>
          </p:cNvPr>
          <p:cNvSpPr/>
          <p:nvPr/>
        </p:nvSpPr>
        <p:spPr>
          <a:xfrm>
            <a:off x="838080" y="640080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What Is Persuasion?</a:t>
            </a: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Persuasion is a type of writing designed to change the way a reader or listener thinks or acts. Persuasive writing can be found in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227160" indent="-112680"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peeches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227160" indent="-112680"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newspaper editorials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227160" indent="-112680"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essays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227160" indent="-112680"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articles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227160" indent="-112680"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advertisements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AutoShape 5">
            <a:hlinkClick r:id="" action="ppaction://hlinkshowjump?jump=endshow"/>
          </p:cNvPr>
          <p:cNvSpPr/>
          <p:nvPr/>
        </p:nvSpPr>
        <p:spPr>
          <a:xfrm>
            <a:off x="838080" y="640080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Building an Argument</a:t>
            </a: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7160" indent="-112680"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A sound persuasive argument consists of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2" marL="511200" indent="-112680">
              <a:spcAft>
                <a:spcPts val="825"/>
              </a:spcAft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a clearly stated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opinion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2" marL="511200" indent="-112680">
              <a:spcAft>
                <a:spcPts val="825"/>
              </a:spcAft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relevant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reasons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for that opinion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2" marL="511200" indent="-112680">
              <a:spcAft>
                <a:spcPts val="825"/>
              </a:spcAft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evidence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that supports each reason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3" marL="804960" indent="-123840">
              <a:spcAft>
                <a:spcPts val="751"/>
              </a:spcAft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Evidence may take the form of facts, statistics, examples, anecdotes, or expert testimony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227160" indent="-112680"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Much persuasion also includes a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all to action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AutoShape 4">
            <a:hlinkClick r:id="" action="ppaction://hlinkshowjump?jump=endshow"/>
          </p:cNvPr>
          <p:cNvSpPr/>
          <p:nvPr/>
        </p:nvSpPr>
        <p:spPr>
          <a:xfrm>
            <a:off x="838080" y="640080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Types of Persuasive Appeals</a:t>
            </a: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220320" indent="-109080"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Logical appeals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focus on facts in order to persuade the audience’s </a:t>
            </a: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brain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that the writer’s opinion is correct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2" marL="495720" indent="-109080">
              <a:spcAft>
                <a:spcPts val="75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paying Fluffy will prevent her from getting certain types of cancer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220320" indent="-109080">
              <a:spcBef>
                <a:spcPts val="1500"/>
              </a:spcBef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motional appeals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attempt to persuade the audience’s </a:t>
            </a: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heart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of the writer’s opinion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2" marL="495720" indent="-109080">
              <a:spcAft>
                <a:spcPts val="825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f Fluffy is spayed, she will be a healthier, happier companion.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220320" indent="-109080">
              <a:spcBef>
                <a:spcPts val="1500"/>
              </a:spcBef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thical appeals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target the audience’s sense of</a:t>
            </a: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 duty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or of </a:t>
            </a: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right and wrong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2" marL="495720" indent="-109080">
              <a:spcAft>
                <a:spcPts val="75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eventing unwanted litters is everyone’s responsibility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AutoShape 4">
            <a:hlinkClick r:id="" action="ppaction://hlinkshowjump?jump=endshow"/>
          </p:cNvPr>
          <p:cNvSpPr/>
          <p:nvPr/>
        </p:nvSpPr>
        <p:spPr>
          <a:xfrm>
            <a:off x="838080" y="640080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Persuasive Techniques</a:t>
            </a: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Persuasive techniques, also called propaganda techniques, often appeal to the audience’s emotions or ethics. Such techniques include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227160" indent="-112680"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loaded words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227160" indent="-112680"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glittering generalities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227160" indent="-112680"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bandwagon appeals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227160" indent="-112680"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testimonials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AutoShape 4">
            <a:hlinkClick r:id="" action="ppaction://hlinkshowjump?jump=endshow"/>
          </p:cNvPr>
          <p:cNvSpPr/>
          <p:nvPr/>
        </p:nvSpPr>
        <p:spPr>
          <a:xfrm>
            <a:off x="838080" y="640080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Persuasive Techniques</a:t>
            </a: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9246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7160" indent="-112680"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Loaded words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carry strong emotional associations.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" name="Rectangle 1028"/>
          <p:cNvSpPr/>
          <p:nvPr/>
        </p:nvSpPr>
        <p:spPr>
          <a:xfrm>
            <a:off x="914400" y="2138400"/>
            <a:ext cx="79246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511200" indent="-112680">
              <a:lnSpc>
                <a:spcPct val="100000"/>
              </a:lnSpc>
              <a:spcAft>
                <a:spcPts val="825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Our volleyball team won the tournament, pulverizing the Jarvis High team in the final.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227160" indent="-112680">
              <a:lnSpc>
                <a:spcPct val="100000"/>
              </a:lnSpc>
              <a:spcBef>
                <a:spcPts val="1500"/>
              </a:spcBef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Glittering generalities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are a kind of loaded words. These overwhelmingly positive statements ignore any evidence to the contrary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2" marL="511200" indent="-112680">
              <a:lnSpc>
                <a:spcPct val="100000"/>
              </a:lnSpc>
              <a:spcAft>
                <a:spcPts val="75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Laugh-a-Minute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 is unquestionably the funniest television series ever to air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" name="AutoShape 1029">
            <a:hlinkClick r:id="" action="ppaction://hlinkshowjump?jump=endshow"/>
          </p:cNvPr>
          <p:cNvSpPr/>
          <p:nvPr/>
        </p:nvSpPr>
        <p:spPr>
          <a:xfrm>
            <a:off x="838080" y="640080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Persuasive Techniques</a:t>
            </a: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7160" indent="-112680"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Bandwagon appeals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imply that “everyone” agrees with the writer’s opinion and warn readers or listeners not to be left out by disagreeing or failing to act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914400" y="2895480"/>
            <a:ext cx="79246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511200" indent="-112680">
              <a:lnSpc>
                <a:spcPct val="100000"/>
              </a:lnSpc>
              <a:spcAft>
                <a:spcPts val="75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Clearly, no one opposes recycling.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2" marL="511200" indent="-112680">
              <a:lnSpc>
                <a:spcPct val="100000"/>
              </a:lnSpc>
              <a:spcAft>
                <a:spcPts val="75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Don’t be considered a dinosaur by failing to recycle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227160" indent="-112680">
              <a:lnSpc>
                <a:spcPct val="100000"/>
              </a:lnSpc>
              <a:spcBef>
                <a:spcPts val="1500"/>
              </a:spcBef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Testimonials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are endorsements by well-known people or by people with whom the audience identifies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2" marL="511200" indent="-112680">
              <a:lnSpc>
                <a:spcPct val="100000"/>
              </a:lnSpc>
              <a:spcAft>
                <a:spcPts val="75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After I won the Super Bowl, what I wanted most was a big bowl of Malloy’s Chicken Chowder.”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2" marL="511200" indent="-112680">
              <a:lnSpc>
                <a:spcPct val="100000"/>
              </a:lnSpc>
              <a:spcAft>
                <a:spcPts val="75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Moms like me know that nothing keeps kids going like Malloy’s Chicken Chowder.”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AutoShape 5">
            <a:hlinkClick r:id="" action="ppaction://hlinkshowjump?jump=endshow"/>
          </p:cNvPr>
          <p:cNvSpPr/>
          <p:nvPr/>
        </p:nvSpPr>
        <p:spPr>
          <a:xfrm>
            <a:off x="838080" y="640080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Faulty Arguments</a:t>
            </a: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Common kinds of faulty reasoning, or fallacies, to watch for include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227160" indent="-112680"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circular reasoning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227160" indent="-112680"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hasty generalization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227160" indent="-112680"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name-calling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227160" indent="-112680"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either-or reasoning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227160" indent="-112680"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false cause and effect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" name="AutoShape 4">
            <a:hlinkClick r:id="" action="ppaction://hlinkshowjump?jump=endshow"/>
          </p:cNvPr>
          <p:cNvSpPr/>
          <p:nvPr/>
        </p:nvSpPr>
        <p:spPr>
          <a:xfrm>
            <a:off x="838080" y="640080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Faulty Arguments</a:t>
            </a: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7160" indent="-112680"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ircular reasoning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occurs when the reason for an opinion is simply the opinion stated in different words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914400" y="2514600"/>
            <a:ext cx="7924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511200" indent="-112680">
              <a:lnSpc>
                <a:spcPct val="100000"/>
              </a:lnSpc>
              <a:spcAft>
                <a:spcPts val="75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Audrey Marlowe is the best singer in the world because she’s so talented and good at what she does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227160" indent="-112680">
              <a:lnSpc>
                <a:spcPct val="100000"/>
              </a:lnSpc>
              <a:spcBef>
                <a:spcPts val="1500"/>
              </a:spcBef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A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hasty generalization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is a statement based on insufficient evidence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2" marL="511200" indent="-112680">
              <a:lnSpc>
                <a:spcPct val="100000"/>
              </a:lnSpc>
              <a:spcAft>
                <a:spcPts val="75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A student driver struck a post last week; if we allow students to leave campus for lunch, accidents will increase tenfold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227160" indent="-112680">
              <a:lnSpc>
                <a:spcPct val="100000"/>
              </a:lnSpc>
              <a:spcAft>
                <a:spcPts val="75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AutoShape 6">
            <a:hlinkClick r:id="" action="ppaction://hlinkshowjump?jump=endshow"/>
          </p:cNvPr>
          <p:cNvSpPr/>
          <p:nvPr/>
        </p:nvSpPr>
        <p:spPr>
          <a:xfrm>
            <a:off x="838080" y="640080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1T20:01:07Z</dcterms:created>
  <dc:creator>Amber Rigney</dc:creator>
  <dc:description/>
  <dc:language>en-US</dc:language>
  <cp:lastModifiedBy>Teacher</cp:lastModifiedBy>
  <cp:lastPrinted>2003-08-26T20:53:05Z</cp:lastPrinted>
  <dcterms:modified xsi:type="dcterms:W3CDTF">2010-12-03T12:40:14Z</dcterms:modified>
  <cp:revision>38</cp:revision>
  <dc:subject/>
  <dc:title>Title Master style Arial Bold 34pt.</dc:title>
</cp:coreProperties>
</file>